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492-F5BF-4693-B7BE-820847A6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18F-0A08-429D-B253-60CA3270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0F8-BD1A-4610-ABC3-4B615C4C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790-FA2C-4D69-83E7-CD9A147D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FDD-F640-4CCE-B9B5-EBAB5DC5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F91-A892-4305-B6CB-7C1283D7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894-9DAB-449A-ADCA-07337EEC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1B3-9F82-4B44-B310-2E8D198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E89-A452-461E-B55C-41F41C5B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395-07EE-4CC1-B154-9EFE4A4D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4FF-BB71-4215-A9BD-9FBF0F7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837-E15F-4D75-A626-C9B6FF4C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6673-AECA-4E2D-AE96-4D5C4DD11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To look at 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ar –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looking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43760" y="4495680"/>
            <a:ext cx="10191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 A person that tells st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 s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9240" y="2743200"/>
            <a:ext cx="1896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sign out and tak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check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sta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86360" y="2590920"/>
            <a:ext cx="15811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 To take something with permis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: bor-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 use with per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 : ste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324480" y="259092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: Full of strong desire: ex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: ea-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 : really hap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8-10-21T15:48:42Z</dcterms:modified>
  <cp:revision>9</cp:revision>
  <dc:subject/>
  <dc:title>PowerPoint Presentation</dc:title>
</cp:coreProperties>
</file>